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A1F-C66D-42E6-A198-80965100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1F6-9013-478E-A09C-942146B6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6F3-7BB9-4C12-89D3-E26A7F32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6E4-2666-455C-A400-3E29BD8B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EA1-F471-49B5-8518-A2D76756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E59-8741-4361-A126-6F7C8836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734-EA08-4572-9124-32ED6826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738-B933-4867-9920-D4A67F50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E43-0DD1-45F7-AD66-4B4CF9AB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6DB-7CAA-430A-A441-3C80D5AF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D3A-F820-41B8-A9FC-75A7ADF3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703-5A6B-4E93-A422-D388D73F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8B38-2688-4AAF-A857-800EA6844FA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.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6.0.20100930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9-30T11:16:10Z</dcterms:modified>
  <cp:revision>102</cp:revision>
  <dc:subject/>
  <dc:title>投影片 1</dc:title>
</cp:coreProperties>
</file>